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F88-639F-4F0B-BED4-9A33E388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F57-2E2A-4A01-A7BF-86AC7487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FEFD-121F-4289-99E3-6CC99C7F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AD8-0442-4E0F-A90F-508869B4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A3B7-D375-4C9C-BC4A-9595F98F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E466-FB98-4DAB-8CBA-4F236D3B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C678-59D5-43EF-B884-ED453466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7802-FEBB-4A6D-8FC6-E22F62F6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4C80-2DF6-4F10-8E51-1F1393DA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5CBF-C993-466C-B92E-05ED7BA2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A47B-9571-4A8B-BCB3-665CE907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4048-5557-46ED-8FD1-67478A71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2E4C-4F3F-499B-B6B5-18D9D1FC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7326-514E-4B6E-8575-2A1A396C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BFB3-E4F0-4C14-9D74-2B0257C2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CCE7-96D8-40B0-9F70-D24030AA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254A-AF60-4A25-BCB1-52BDE238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F5CA-C1E4-4145-A7F7-0E881047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9DD-1CAB-4BA2-BB46-B8E1470B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2998-6738-4AD5-A2F0-7B1B460D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CDB-33B2-418B-A2A5-2C7A57AA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08AC-5255-41FC-9E25-45DDB5EB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9E9-A706-47B4-980D-42FE844D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ADCB-51B0-4FC9-941C-0005EDAC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510E-6DFA-46AA-A0A6-3E65924A421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9506-12F7-48FB-9595-8B6F531B931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5280" y="907920"/>
            <a:ext cx="8748720" cy="5445360"/>
          </a:xfrm>
          <a:prstGeom prst="rect">
            <a:avLst/>
          </a:prstGeom>
          <a:ln w="0">
            <a:noFill/>
          </a:ln>
        </p:spPr>
      </p:pic>
      <p:sp>
        <p:nvSpPr>
          <p:cNvPr id="90" name="Tytuł 1"/>
          <p:cNvSpPr/>
          <p:nvPr/>
        </p:nvSpPr>
        <p:spPr>
          <a:xfrm>
            <a:off x="75564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cc00"/>
                </a:solidFill>
                <a:latin typeface="Arial"/>
              </a:rPr>
              <a:t>WODÓR (hydrogenium)</a:t>
            </a:r>
            <a:br>
              <a:rPr sz="4800"/>
            </a:br>
            <a:r>
              <a:rPr b="1" lang="pl-PL" sz="4800" spc="-1" strike="noStrike">
                <a:solidFill>
                  <a:srgbClr val="ffcc00"/>
                </a:solidFill>
                <a:latin typeface="Arial"/>
              </a:rPr>
              <a:t>najlżejszy z gazó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nokautimg1.pl/p-04-65-04656ff3a8c62865ef7313db3a0bbdfc500x500/tablica-uwaga-wodor.jpg"/>
          <p:cNvPicPr/>
          <p:nvPr/>
        </p:nvPicPr>
        <p:blipFill>
          <a:blip r:embed="rId2"/>
          <a:srcRect l="0" t="24191" r="0" b="24400"/>
          <a:stretch/>
        </p:blipFill>
        <p:spPr>
          <a:xfrm>
            <a:off x="1619280" y="2565360"/>
            <a:ext cx="597708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rostokąt 3"/>
          <p:cNvSpPr/>
          <p:nvPr/>
        </p:nvSpPr>
        <p:spPr>
          <a:xfrm>
            <a:off x="0" y="620640"/>
            <a:ext cx="914400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ja 1937r. na lotnisku marynarki wojennej USA -Lakehurst Field, w pobliżu Nowego Jorku, doszło do katastrofy największego na świecie, niemieckiego sterowc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„Hindenburg”. Wart 3 miliony 750 tys. $„statek przyszłości”, mieszczący 2 miliony m</a:t>
            </a:r>
            <a:r>
              <a:rPr b="0" lang="pl-P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4"/>
          <p:cNvSpPr/>
          <p:nvPr/>
        </p:nvSpPr>
        <p:spPr>
          <a:xfrm>
            <a:off x="254880" y="0"/>
            <a:ext cx="596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strożnie z wodorem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4.bp.blogspot.com/_S7cyAVhrW9U/TIDvfMdtWpI/AAAAAAAAAPs/n6bJfMJYMlE/s1600/170810top.jpg"/>
          <p:cNvPicPr/>
          <p:nvPr/>
        </p:nvPicPr>
        <p:blipFill>
          <a:blip r:embed="rId1"/>
          <a:srcRect l="8122" t="0" r="0" b="5516"/>
          <a:stretch/>
        </p:blipFill>
        <p:spPr>
          <a:xfrm>
            <a:off x="0" y="2671920"/>
            <a:ext cx="5724360" cy="4186080"/>
          </a:xfrm>
          <a:prstGeom prst="rect">
            <a:avLst/>
          </a:prstGeom>
          <a:ln w="0">
            <a:noFill/>
          </a:ln>
        </p:spPr>
      </p:pic>
      <p:sp>
        <p:nvSpPr>
          <p:cNvPr id="114" name="Prostokąt 7"/>
          <p:cNvSpPr/>
          <p:nvPr/>
        </p:nvSpPr>
        <p:spPr>
          <a:xfrm>
            <a:off x="6084720" y="2276640"/>
            <a:ext cx="3059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hodząc do lądowania, stanął w płomieniach. Była to najbardziej spektakularna katastrofa stulecia, która zamknęła erę sterowc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388360" cy="62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http://www.astronomynow.com/news/n0908/26trifid/trifid.jpg"/>
          <p:cNvPicPr/>
          <p:nvPr/>
        </p:nvPicPr>
        <p:blipFill>
          <a:blip r:embed="rId1"/>
          <a:stretch/>
        </p:blipFill>
        <p:spPr>
          <a:xfrm>
            <a:off x="0" y="0"/>
            <a:ext cx="5364000" cy="6900840"/>
          </a:xfrm>
          <a:prstGeom prst="rect">
            <a:avLst/>
          </a:prstGeom>
          <a:ln w="0">
            <a:noFill/>
          </a:ln>
        </p:spPr>
      </p:pic>
      <p:sp>
        <p:nvSpPr>
          <p:cNvPr id="94" name="Prostokąt 2"/>
          <p:cNvSpPr/>
          <p:nvPr/>
        </p:nvSpPr>
        <p:spPr>
          <a:xfrm>
            <a:off x="5435640" y="1773360"/>
            <a:ext cx="370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st najbardziej rozpowszechnionym pierwiastkiem we Wszechświec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tomy wodoru stanowią 90% wszystkich atomów wszechświ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rostokąt 3"/>
          <p:cNvSpPr/>
          <p:nvPr/>
        </p:nvSpPr>
        <p:spPr>
          <a:xfrm>
            <a:off x="6230520" y="549360"/>
            <a:ext cx="200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alibri"/>
              </a:rPr>
              <a:t>Wodó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rostokąt 1"/>
          <p:cNvSpPr/>
          <p:nvPr/>
        </p:nvSpPr>
        <p:spPr>
          <a:xfrm>
            <a:off x="395280" y="1844640"/>
            <a:ext cx="87487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dór w skorupie ziemskiej stanow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14% masow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stępuje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przyrodzie w stanie związanym, natomiast w stanie wolnym spotyka się go w małych ilościach w gazach wulkanicznych, a niekiedy i w gazie ziemnym. Ślady „wolnego” wodoru znajdują się też w pobliżu powierzchni Ziemi oraz w górnych warstwach atmosfery. Bardzo niewielkie ilości wodoru wydzielają się z niektórych gorących źróde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łówny źródłem wodoru jest woda i większość związków organiczny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 których skład wchodzą przede wszystkim węgiel i wodó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rostokąt 3"/>
          <p:cNvSpPr/>
          <p:nvPr/>
        </p:nvSpPr>
        <p:spPr>
          <a:xfrm>
            <a:off x="974880" y="765000"/>
            <a:ext cx="240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alibri"/>
              </a:rPr>
              <a:t>Na Ziem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rostokąt 2"/>
          <p:cNvSpPr/>
          <p:nvPr/>
        </p:nvSpPr>
        <p:spPr>
          <a:xfrm>
            <a:off x="395280" y="692280"/>
            <a:ext cx="8748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ększych od 10 000 000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, panujących w gwiazdach, zachodzą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akcje termojądrow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W ich wyniku następuj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emiana wodoru w he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a energia wydzielana w tych reakcjach jest głównym źródłem energii promienistej emitowanej przez Słoń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rostokąt 5"/>
          <p:cNvSpPr/>
          <p:nvPr/>
        </p:nvSpPr>
        <p:spPr>
          <a:xfrm>
            <a:off x="256320" y="0"/>
            <a:ext cx="42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alibri"/>
              </a:rPr>
              <a:t>W temperaturach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rostokąt 1"/>
          <p:cNvSpPr/>
          <p:nvPr/>
        </p:nvSpPr>
        <p:spPr>
          <a:xfrm>
            <a:off x="250920" y="907920"/>
            <a:ext cx="8893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warunkach normalnych jest gazem bezbarwn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zwonnym i bez smak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łabo rozpuszczalnym w wodz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z o najmniejszej gęstości(14 razy mniejszej od gęstości powietrz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rostokąt 4"/>
          <p:cNvSpPr/>
          <p:nvPr/>
        </p:nvSpPr>
        <p:spPr>
          <a:xfrm>
            <a:off x="255600" y="0"/>
            <a:ext cx="745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łaściwości fizyczne wodor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19600" t="27219" r="17220" b="5704"/>
          <a:stretch/>
        </p:blipFill>
        <p:spPr>
          <a:xfrm>
            <a:off x="1116000" y="2546280"/>
            <a:ext cx="67690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rostokąt 1"/>
          <p:cNvSpPr/>
          <p:nvPr/>
        </p:nvSpPr>
        <p:spPr>
          <a:xfrm>
            <a:off x="395280" y="155736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zwon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Łączy się z niemetala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tlenem tworzy wod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azotem tworzy amoni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chlorem chlorowodó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siarką siarkowodó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Łączy się z metalami tworząc wodor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rostokąt 2"/>
          <p:cNvSpPr/>
          <p:nvPr/>
        </p:nvSpPr>
        <p:spPr>
          <a:xfrm>
            <a:off x="474120" y="476280"/>
            <a:ext cx="80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łaściwości chemiczne wodor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rostokąt 2"/>
          <p:cNvSpPr/>
          <p:nvPr/>
        </p:nvSpPr>
        <p:spPr>
          <a:xfrm>
            <a:off x="1727280" y="981000"/>
            <a:ext cx="7416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reakcji pomiędzy cynkiem Zn i kwasem solnym HC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3"/>
          <p:cNvSpPr/>
          <p:nvPr/>
        </p:nvSpPr>
        <p:spPr>
          <a:xfrm>
            <a:off x="3063960" y="260280"/>
            <a:ext cx="559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trzymywanie wod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rostokąt 2"/>
          <p:cNvSpPr/>
          <p:nvPr/>
        </p:nvSpPr>
        <p:spPr>
          <a:xfrm>
            <a:off x="574560" y="981000"/>
            <a:ext cx="85694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kcja wodoru z tlenem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lanie wodo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→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kcja wymaga zainicjowania i jest silnie egzotermiczna. Po ogrzaniu mieszaniny do temp. 180°C (tworzenie się pary wodnej) następuje z dostrzegalną szybkością, a w temperaturze wyższej niż 450°C reakcja przebiega wybuchow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uch jest szczególnie gwałtowny, jeżeli stosunek objętościowy wodoru do tlenu wynosi 2: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eszaninę taką nazywa się mieszaniną piorunując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ybuch może być zapoczątkowany przez iskrę elektryczną lub zetknięcie z płomieniem. Czysty wodór (wypływający z palnika, temp. ok. 640°C) pali się niebieskim, słabo świecącym płomieni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"/>
          <p:cNvSpPr/>
          <p:nvPr/>
        </p:nvSpPr>
        <p:spPr>
          <a:xfrm>
            <a:off x="254520" y="0"/>
            <a:ext cx="286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iekawostk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12:03:32Z</dcterms:created>
  <dc:creator>jkandyba</dc:creator>
  <dc:description/>
  <dc:language>en-US</dc:language>
  <cp:lastModifiedBy>Toshiba</cp:lastModifiedBy>
  <dcterms:modified xsi:type="dcterms:W3CDTF">2013-05-05T19:28:23Z</dcterms:modified>
  <cp:revision>34</cp:revision>
  <dc:subject/>
  <dc:title>Slajd 1</dc:title>
</cp:coreProperties>
</file>